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30.wmf" ContentType="image/x-wmf"/>
  <Override PartName="/ppt/media/image6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31.wmf" ContentType="image/x-wmf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12.jpeg" ContentType="image/jpeg"/>
  <Override PartName="/ppt/media/image37.jpeg" ContentType="image/jpeg"/>
  <Override PartName="/ppt/media/image34.wmf" ContentType="image/x-wmf"/>
  <Override PartName="/ppt/media/image36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F9A4-BECA-408B-8D19-67D62B47C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ve students check and correct their answers from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t pictures and words on p.24.  In pairs- Students mus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tudents put pictures next to the correct quantity on handout of quantities.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crease size…copy and Cut up dialog on p.27 and students put in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5B2-5D6C-4C52-81C8-FECB485D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BAA-CE4D-4D32-814B-73A3EC82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3B9-4588-4144-A102-F53720EE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9E2-4655-44F7-AA6A-CEF82A93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769-EEB4-4940-BBCB-97CEF353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938-A053-45CF-8D8B-F88B28B3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9F7-0CD8-40EE-8048-068ED686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73C-5F17-4FEB-8ED3-C0E52FC3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CE-50B1-4716-9DF7-F60FF9FA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D31-7305-4758-B4E5-ED6B1D1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4ED-07E9-4993-BC4F-E933A56A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4ED-7E72-46A0-8794-91CC296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2BC-8C7F-4212-AC5C-E9ED2DAC2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6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endemos H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dir productos alimenticios en una ti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guntar el precio de un determinad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286160" cy="262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2438640" cy="3067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3886200" cy="244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495680" y="3200400"/>
            <a:ext cx="4213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52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2280" y="2771640"/>
            <a:ext cx="66675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3631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58428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5bkC8Ul0zww&amp;feature=list_related&amp;playnext=1&amp;list=MLGxdCwVVULXeo5BtOxBQmZRIzxG42Yx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s Ali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ién hace la compra en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refieres los supermercados o los mercados tradicionales al aire libre? 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7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382840" cy="1919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21747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idas-</a:t>
            </a: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(Me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ntre qué horas comes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omes un desayuno grande o pequeñ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una mer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la c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 es tu comida más grande de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841760" cy="165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5029200"/>
            <a:ext cx="183996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790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é piensas? ¿Qué crees?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idas en Espa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ntre qué horas piensas que una persona come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español come un desayuno grande o pequeñ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piensas que los españoles comen una mer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rees que comen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piensas que comen la c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 es su comida más grande del día? ¿Qué piens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133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omidas en 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timing of meals in Spain is quite different from the rest of Europe and US and my surprise you. Breakfast is usually served between 9 and 11 and it is commonly quick and simple.  A midmorning snack is common between 11 and 12.  Lunch is the main meal.  It starts around  around 14.00 and lasts until 16.00 or even later if it is a family gathering or special occasion.  (This usually is very late for most foreigners.) Dinner is also generally taken late, from 9.00 onwards.  Most restaurants open at 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or even 9.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:  Service is usually included in the bill so tips are not required; however, if the service and the food are good you may leave an additional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ar una canci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ón de Na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GATA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andero sin son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te metes en las p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co el pito y el 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u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oril y casc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repet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57880" y="1459080"/>
            <a:ext cx="181440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80280" y="4011480"/>
            <a:ext cx="2367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arej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emparejar las palabras a los dibu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ersona con 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ás correctos recibe un prem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ner los dibujos con la cantidad correcta en tu ho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.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ª Juego de la pelota…Pass the ball to others…if the timer goes off while you are speaking, you are out!  Last person left is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REA PARA EL VIERNES EL 10 DE DICIEM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-Lección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do el paqu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Memorizar la comida (usa las tarjetas verdes para memori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ueba la pr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óxima clase!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Quiz on these foods next class…see p.24 en you 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-Libro Azul Ab Initio (Blue Abinitio Book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p. 151, 152, 153…Read dialog and answer comprehen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El 10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prendemos H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guntar el precio de un determinado produ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dir algo en un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licitar un servicio en un restaur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ción de Navid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omar Pruebita sobre la comida-vocabulario p.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aso…4ª Juego de la pelota…Pass the ball to others…if the timer goes off while you are speaking, you are out!  Last person left is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 1-repasar rápid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.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 Obser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u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ner el diálogo en ord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y que ver las fotos de Andaluc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que escribir debajo de cada foto una(s) palabra(s) que corresponde a la f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. 27 8ª  completa el diá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b escu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áctica de Hablar p.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-Usa tus tarjetas…escoge los productos que quieres en tu ti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-Decide lo que quieres comprar. Haz la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. 28 10ª ¿Con qué países asocias estos product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fé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rtil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íjole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riz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ranja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qui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n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nción ¨Hoy es lunes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Mira las comidas típicas de Méxic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¿Qué signific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tienen hambre.-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mos a Comer-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hora vamos a ca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GYJhr1e8dC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 un Resta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. 29,30,31 or 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evo Vocabulario de p. 155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Libro Az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olumnas-H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e el ing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és de las palabras que sabes en la segunda colum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equea tus respuestas en la página 1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bla la primera columna y termina para la tare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A PARA MARTES el 14 de diciem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árate para un oral interactiva sobre la comida en dos cl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Hacer en el Libro Azul Ab Initio: pp 154-160, 164-1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-Memorizar el vocabulario en p. 155-terminar 4 columnas. (ver hoja) Prueba la 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- Leer pp 32,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ercise 1 A, B,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-Hay que escribir un diálogo entre un mesero y un cliente. Hay que usar las frases en las hojas sobre el restaurante (restaurant handouts) y las frases en tu libro.  Tienes que escribir un diálogo por lo menos de 150 palabras . Hay que incluír unos problemas que tiene el cliente (hay que quejarse sobre algo) También hay que incluír vocabulario de p.24 en el libro y p. 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-Hacer la hoja (categori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14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s práctica 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dir algo en un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licitar un servicio en un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ntar una cancion de Na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uebita sobre el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ndaluc</a:t>
            </a:r>
            <a:r>
              <a:rPr b="0" lang="es-ES" sz="4400" spc="-1" strike="noStrike">
                <a:solidFill>
                  <a:srgbClr val="000000"/>
                </a:solidFill>
                <a:latin typeface="comic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857680" cy="3009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72000" y="3733920"/>
            <a:ext cx="4229280" cy="281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191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962520" y="0"/>
            <a:ext cx="2084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álogo-Resta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tegor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t the strips in order lo que diría un camarer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que diría un cl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jas de un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culpas de un camar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A PARA VIERNES el 17 de diciem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árate para un oral interactiva sobre la comida la próxima cl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-repasar el vocabulario de la comida y las frases para un restau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-Hacer las Pruebas 1 y 2-todos (past papers 1 and 2-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-Memorizar la lista de vocabulario-Comida para una prueba la próxim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-Corregir la prueba 2 que acabo de entregarte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17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tar una cancion navi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mar oral inter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 Ropa-HW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ltura Navide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al Individu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REA SOBRE LA VAC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Past papers con com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pp161-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6840" y="304920"/>
            <a:ext cx="4348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32448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915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11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1000" y="0"/>
            <a:ext cx="3753000" cy="2814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3809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505320" cy="232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256200" cy="327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72000" y="152280"/>
            <a:ext cx="3743280" cy="2378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30481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7:41:06Z</dcterms:created>
  <dc:creator>wanda.snowfrost</dc:creator>
  <dc:description/>
  <dc:language>en-US</dc:language>
  <cp:lastModifiedBy>wanda.snowfrost</cp:lastModifiedBy>
  <dcterms:modified xsi:type="dcterms:W3CDTF">2011-02-08T05:06:49Z</dcterms:modified>
  <cp:revision>13</cp:revision>
  <dc:subject/>
  <dc:title>Andalucia</dc:title>
</cp:coreProperties>
</file>